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ADC0-9517-432B-AF81-51C89ACA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2548-E888-42C7-83EF-6560FAE6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EAC-0DCD-4F39-B3F6-DA903194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E279-EBE0-4CEE-9099-E0359DEA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1AA5-E5E6-4489-90A6-5AE91898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4B6F-F918-40EB-91F2-AD68B952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9BA3-B495-4417-9385-12A92F0E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AB78-C21D-430F-92DE-48799973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C8CA-C60C-496B-85E2-9748E25E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755-7167-4BBC-83B8-A92E3A16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E889-1521-4C69-8516-59AB6310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CAB-4DA5-47C6-B608-9E415E39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8C9A-42A1-410F-9856-DA2BCC1B0D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ff"/>
                </a:solidFill>
                <a:latin typeface="Bradley Hand ITC"/>
              </a:rPr>
              <a:t>Vacation on the beaches of brazil!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By: sasha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ff"/>
                </a:solidFill>
                <a:latin typeface="Bradley Hand ITC"/>
              </a:rPr>
              <a:t>Activities on the beaches!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pacabana Beach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ff"/>
                </a:solidFill>
                <a:latin typeface="Bradley Hand ITC"/>
              </a:rPr>
              <a:t>a beach on the white sands of brazil the most famous for after wedding fun and activ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5867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ff"/>
                </a:solidFill>
                <a:latin typeface="Bradley Hand ITC"/>
              </a:rPr>
              <a:t>Fun resorts to vist!..mwa..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each homes:</a:t>
            </a:r>
            <a:r>
              <a:rPr b="0" i="1" lang="en-US" sz="3200" spc="-1" strike="noStrike">
                <a:solidFill>
                  <a:srgbClr val="ff00ff"/>
                </a:solidFill>
                <a:latin typeface="Bradley Hand ITC"/>
              </a:rPr>
              <a:t> a wonderful tropical place to spend your vice.. At the famous Hilton hotel catering to all your pampering needs. A nice way to enjoy their braz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rot="19855200">
            <a:off x="471600" y="41256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274320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 rot="1462800">
            <a:off x="5905080" y="4495320"/>
            <a:ext cx="3238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ff"/>
                </a:solidFill>
                <a:latin typeface="Bradley Hand ITC"/>
              </a:rPr>
              <a:t>Historical site seeing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ff"/>
                </a:solidFill>
                <a:latin typeface="Bradley Hand ITC"/>
              </a:rPr>
              <a:t>WHILE YOU ARE IN BRAZIL BE SURE TO VIST HISTORCAIL SITES YOU WILL LO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rot="19540200">
            <a:off x="1538280" y="3562200"/>
            <a:ext cx="1530360" cy="2133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038480" y="2895480"/>
            <a:ext cx="2667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ff"/>
                </a:solidFill>
                <a:latin typeface="Bradley Hand ITC"/>
              </a:rPr>
              <a:t>Enjoy tastey foods! Yum..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Rocks: </a:t>
            </a:r>
            <a:r>
              <a:rPr b="0" i="1" lang="en-US" sz="3200" spc="-1" strike="noStrike">
                <a:solidFill>
                  <a:srgbClr val="ff00ff"/>
                </a:solidFill>
                <a:latin typeface="Bradley Hand ITC"/>
              </a:rPr>
              <a:t>brazillian  cusines are so tastey but there only really as good as they say if you vist and try it yourself at one of there reastrunts in braz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6:22:38Z</dcterms:created>
  <dc:creator>769579</dc:creator>
  <dc:description/>
  <dc:language>en-US</dc:language>
  <cp:lastModifiedBy>769579</cp:lastModifiedBy>
  <dcterms:modified xsi:type="dcterms:W3CDTF">2009-01-23T16:40:16Z</dcterms:modified>
  <cp:revision>2</cp:revision>
  <dc:subject/>
  <dc:title>Vacation on the beaches of brazil!</dc:title>
</cp:coreProperties>
</file>